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3D3-E5A6-4CBD-A4C7-DFB67EC2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6D7F-3BC6-4C8D-866B-BE5B4AAC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3520-CD40-42D6-8B27-B9ED6A5E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684-67A3-42D9-B66D-7589CCFE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DF4-F356-40BE-AC7F-B0B30038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1B1-B825-4BB6-8E2C-12A4E223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08A-6379-48E0-95D9-ED2B3B62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FCA-D0DD-46B7-89AE-EB5263E7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C75-62EF-4178-A9A8-2B3F894E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623-6848-429C-89F7-8B6A9E66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4623-885D-4338-AD55-4DAD141A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877A-7286-4A57-9D31-4C127F6A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DCF4-2E67-4092-A953-4D34BC916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688.WAV" TargetMode="External"/><Relationship Id="rId2" Type="http://schemas.microsoft.com/office/2007/relationships/media" Target="file:///tmp/home/.config/libreoffice/4/user/gallery/~PP268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file:///tmp/home/.config/libreoffice/4/user/gallery/~PP3271.WAV" TargetMode="External"/><Relationship Id="rId4" Type="http://schemas.microsoft.com/office/2007/relationships/media" Target="file:///tmp/home/.config/libreoffice/4/user/gallery/~PP3271.WAV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file:///tmp/home/.config/libreoffice/4/user/gallery/~PP3159.WAV" TargetMode="External"/><Relationship Id="rId3" Type="http://schemas.microsoft.com/office/2007/relationships/media" Target="file:///tmp/home/.config/libreoffice/4/user/gallery/~PP315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~PP1670.WAV" TargetMode="External"/><Relationship Id="rId3" Type="http://schemas.microsoft.com/office/2007/relationships/media" Target="file:///tmp/home/.config/libreoffice/4/user/gallery/~PP167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~PP1933.WAV" TargetMode="External"/><Relationship Id="rId3" Type="http://schemas.microsoft.com/office/2007/relationships/media" Target="file:///tmp/home/.config/libreoffice/4/user/gallery/~PP193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file:///tmp/home/.config/libreoffice/4/user/gallery/~PP3134.WAV" TargetMode="External"/><Relationship Id="rId3" Type="http://schemas.microsoft.com/office/2007/relationships/media" Target="file:///tmp/home/.config/libreoffice/4/user/gallery/~PP3134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~PP439.WAV" TargetMode="External"/><Relationship Id="rId3" Type="http://schemas.microsoft.com/office/2007/relationships/media" Target="file:///tmp/home/.config/libreoffice/4/user/gallery/~PP43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file:///tmp/home/.config/libreoffice/4/user/gallery/~PP59.WAV" TargetMode="External"/><Relationship Id="rId3" Type="http://schemas.microsoft.com/office/2007/relationships/media" Target="file:///tmp/home/.config/libreoffice/4/user/gallery/~PP5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file:///tmp/home/.config/libreoffice/4/user/gallery/~PP439.WAV" TargetMode="External"/><Relationship Id="rId3" Type="http://schemas.microsoft.com/office/2007/relationships/media" Target="file:///tmp/home/.config/libreoffice/4/user/gallery/~PP43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~PP918.WAV" TargetMode="External"/><Relationship Id="rId3" Type="http://schemas.microsoft.com/office/2007/relationships/media" Target="file:///tmp/home/.config/libreoffice/4/user/gallery/~PP91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~PP2101.WAV" TargetMode="External"/><Relationship Id="rId3" Type="http://schemas.microsoft.com/office/2007/relationships/media" Target="file:///tmp/home/.config/libreoffice/4/user/gallery/~PP2101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~PP2833.WAV" TargetMode="External"/><Relationship Id="rId3" Type="http://schemas.microsoft.com/office/2007/relationships/media" Target="file:///tmp/home/.config/libreoffice/4/user/gallery/~PP283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~PP3112.WAV" TargetMode="External"/><Relationship Id="rId3" Type="http://schemas.microsoft.com/office/2007/relationships/media" Target="file:///tmp/home/.config/libreoffice/4/user/gallery/~PP311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~PP186.WAV" TargetMode="External"/><Relationship Id="rId3" Type="http://schemas.microsoft.com/office/2007/relationships/media" Target="file:///tmp/home/.config/libreoffice/4/user/gallery/~PP186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~PP215.WAV" TargetMode="External"/><Relationship Id="rId3" Type="http://schemas.microsoft.com/office/2007/relationships/media" Target="file:///tmp/home/.config/libreoffice/4/user/gallery/~PP215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~PP650.WAV" TargetMode="External"/><Relationship Id="rId3" Type="http://schemas.microsoft.com/office/2007/relationships/media" Target="file:///tmp/home/.config/libreoffice/4/user/gallery/~PP65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audio" Target="file:///tmp/home/.config/libreoffice/4/user/gallery/~PP2054.WAV" TargetMode="External"/><Relationship Id="rId4" Type="http://schemas.microsoft.com/office/2007/relationships/media" Target="file:///tmp/home/.config/libreoffice/4/user/gallery/~PP2054.WAV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Fe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hren H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mit meiner Hunde gelauf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3214800"/>
            <a:ext cx="3657600" cy="3100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952880" y="3276720"/>
            <a:ext cx="2867040" cy="2836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im Fluss geschwomm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4286160" cy="2877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im das Auto gefahren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eine sehr, sehr lange Zei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4991040" cy="2886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in der Wald ATV gefahr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4515120" cy="3395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bei das Feuer gebleiben, es war sehr warm und beque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948120" cy="4000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im die Kabine geschlaf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096240" cy="4057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8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letzt, bin ich nach zu Hause gefahren, in Illinois.  Es ist eine sehr lange Fahr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6438960" cy="2943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52480" y="3352680"/>
            <a:ext cx="2514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124080"/>
            <a:ext cx="18288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3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Du musst zu der Allegheny National Forest gehe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5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n Pennsylvania, in die Mitte von die Allegheny National Wa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im Kabine gebleiben. Es heisst  “Freddy’s Hideaway” von meinem Grossvater. Es ist sehr alt und klein, aber bequ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5105160" cy="3405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in Marienville besichtig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181480" cy="388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im Kellys geges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324240" cy="1914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durch dem gross Wald gewande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5410440" cy="3909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Ruffled Grouse gejag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00400" y="2143080"/>
            <a:ext cx="2743200" cy="2571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2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mit mein Cousin Badminton gespiel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2247840" cy="3486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5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meine Gewehre geschies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M Air Rifle Target Clip Art"/>
          <p:cNvPicPr/>
          <p:nvPr/>
        </p:nvPicPr>
        <p:blipFill>
          <a:blip r:embed="rId1"/>
          <a:stretch/>
        </p:blipFill>
        <p:spPr>
          <a:xfrm>
            <a:off x="4495680" y="29718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2280" y="4267080"/>
            <a:ext cx="323856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08:19Z</dcterms:created>
  <dc:creator>CUSD220</dc:creator>
  <dc:description/>
  <dc:language>en-US</dc:language>
  <cp:lastModifiedBy>SHERRY MUMMERT</cp:lastModifiedBy>
  <dcterms:modified xsi:type="dcterms:W3CDTF">2011-11-17T22:42:22Z</dcterms:modified>
  <cp:revision>4</cp:revision>
  <dc:subject/>
  <dc:title>Meine Ferien</dc:title>
</cp:coreProperties>
</file>